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F60BE-499F-4C37-BCAD-D37B0D28444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0D882-6F69-41CC-86F4-0A954E4ED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EECD0-EE3F-4C3D-9694-79A1C42D0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DCAC7-8152-40DC-A771-D55289D14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FB57A-C627-4728-9A7A-CF963BF03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E803D-95F4-47ED-85B2-F3A18B1DB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26D10-FEBE-4EEE-BF48-9FC03678C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536E5-96A4-4A8C-8C13-F1E2C537D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9A843-404A-43AD-860F-86BFF49AA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41B95-7E46-477B-B0B8-B453D24EA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9E1E5-FAFB-4BE9-9344-454B9CBE7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DD26E-BD8C-4511-AEF5-09ED2C481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219F4-85B7-4C41-8903-540AD5FB5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895E3-11CC-474A-B80F-E44FAFE5E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810C8-A3D7-4782-A4DC-A4672686B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0A5B5-CAB1-46F8-B55E-FF7599319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AB79C-7375-4A11-B2C3-C8D89A831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949C4-FAD1-423B-BDEA-13DB6CA19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300D0-6F8E-4D90-8D42-325377FA5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9EBB1-A3CB-4BAC-9F6F-5A90C3831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E8F3D-26F7-458D-9C8D-449668042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D1308-303F-4B0C-8B97-187058822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0FFCD-B43C-49E8-AF93-1E1E80F37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51DB8-C86F-4FE8-A6FB-8B0C69782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0DD69-9F55-450A-9E77-98A99FA9E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9B80D-F728-4E65-8C93-DABA8DDE8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4F221-411D-4854-9CBD-805071303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58793-5D46-45BF-A340-768E11AFC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85CF3-81FB-4714-AB41-EAFB415B6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2EF5A-EF6D-4D5B-824E-1F8BCFBF4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F404E-893D-4C77-9393-9B44852AB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E6D04-DDAD-423A-B22B-C0B4F6DE4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DCEA9-C9B1-42AE-8161-D29033D4E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3CB19-534C-4B9C-8010-42877486E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3B604-517E-4B43-B0CA-7196C7861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EDFF2-5647-4B4D-9A56-9764695AB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7E4B9-9265-466A-B2F6-83D2B3E2B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56A62-0C83-405F-AEB4-0A2948D6C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10340-894A-4E4D-9006-01E18B31B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B9D90-CE1F-4397-940F-F796CA1A4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F715D-2D14-4E50-AF68-32263F8B6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06357-6E78-4D70-B27E-53F788AEE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A2C95-97CC-40DD-AC5C-200D6D027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CBDB5-2C04-4938-BC31-633815E5D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77DFA-B86C-41A8-929D-589621F22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BE686-7A38-4867-B23E-DCA0258C4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8E973-449E-46E5-9200-2E5754482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FC7DF-17AC-46D0-829D-EE9631DEE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09882-DCE8-4410-877B-7806D860B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12246-0269-403B-9573-027C28D08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F059D-4C24-41AA-AB63-555CA11A2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1E4B0-FF5C-45FF-82F9-F04A0175E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3249A-0E9D-44DB-869E-411525FEC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41BFE-6320-40FF-B605-C3098AE31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85680" y="741240"/>
            <a:ext cx="4886640" cy="3665520"/>
          </a:xfrm>
          <a:prstGeom prst="rect">
            <a:avLst/>
          </a:prstGeom>
          <a:ln w="0">
            <a:noFill/>
          </a:ln>
        </p:spPr>
      </p:sp>
      <p:sp>
        <p:nvSpPr>
          <p:cNvPr id="14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6D79D-F93F-43AE-BCFB-52A30681A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985680" y="741240"/>
            <a:ext cx="4886640" cy="3665520"/>
          </a:xfrm>
          <a:prstGeom prst="rect">
            <a:avLst/>
          </a:prstGeom>
          <a:ln w="0">
            <a:noFill/>
          </a:ln>
        </p:spPr>
      </p:sp>
      <p:sp>
        <p:nvSpPr>
          <p:cNvPr id="14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ED00A-0D9A-4050-B9F2-B4A68B546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78AD68-07A7-4C1A-BE15-721EE0DB9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985680" y="741240"/>
            <a:ext cx="4886640" cy="3665520"/>
          </a:xfrm>
          <a:prstGeom prst="rect">
            <a:avLst/>
          </a:prstGeom>
          <a:ln w="0">
            <a:noFill/>
          </a:ln>
        </p:spPr>
      </p:sp>
      <p:sp>
        <p:nvSpPr>
          <p:cNvPr id="14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CC97B-86B6-4A31-869E-DE89B0F1A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985680" y="741240"/>
            <a:ext cx="4886640" cy="3665520"/>
          </a:xfrm>
          <a:prstGeom prst="rect">
            <a:avLst/>
          </a:prstGeom>
          <a:ln w="0">
            <a:noFill/>
          </a:ln>
        </p:spPr>
      </p:sp>
      <p:sp>
        <p:nvSpPr>
          <p:cNvPr id="14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2CD35-9320-4C66-AD37-D3B2D019F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85680" y="741240"/>
            <a:ext cx="4886640" cy="3665520"/>
          </a:xfrm>
          <a:prstGeom prst="rect">
            <a:avLst/>
          </a:prstGeom>
          <a:ln w="0">
            <a:noFill/>
          </a:ln>
        </p:spPr>
      </p:sp>
      <p:sp>
        <p:nvSpPr>
          <p:cNvPr id="14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A8566-B432-49F3-A5B9-D8CA10205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85680" y="741240"/>
            <a:ext cx="4886640" cy="3665520"/>
          </a:xfrm>
          <a:prstGeom prst="rect">
            <a:avLst/>
          </a:prstGeom>
          <a:ln w="0">
            <a:noFill/>
          </a:ln>
        </p:spPr>
      </p:sp>
      <p:sp>
        <p:nvSpPr>
          <p:cNvPr id="14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6CC1A-E6E9-42FD-844C-307A99921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985680" y="741240"/>
            <a:ext cx="4886640" cy="3665520"/>
          </a:xfrm>
          <a:prstGeom prst="rect">
            <a:avLst/>
          </a:prstGeom>
          <a:ln w="0">
            <a:noFill/>
          </a:ln>
        </p:spPr>
      </p:sp>
      <p:sp>
        <p:nvSpPr>
          <p:cNvPr id="14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9C9C3-2913-4F75-B1F7-B4CA78D32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85680" y="741240"/>
            <a:ext cx="4886640" cy="3665520"/>
          </a:xfrm>
          <a:prstGeom prst="rect">
            <a:avLst/>
          </a:prstGeom>
          <a:ln w="0">
            <a:noFill/>
          </a:ln>
        </p:spPr>
      </p:sp>
      <p:sp>
        <p:nvSpPr>
          <p:cNvPr id="14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1F4E8-0DD8-447C-BB22-61AE09882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985680" y="741240"/>
            <a:ext cx="4886640" cy="3665520"/>
          </a:xfrm>
          <a:prstGeom prst="rect">
            <a:avLst/>
          </a:prstGeom>
          <a:ln w="0">
            <a:noFill/>
          </a:ln>
        </p:spPr>
      </p:sp>
      <p:sp>
        <p:nvSpPr>
          <p:cNvPr id="14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ADD15-3FA6-4192-AD78-A0CE43492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85680" y="741240"/>
            <a:ext cx="4886640" cy="3665520"/>
          </a:xfrm>
          <a:prstGeom prst="rect">
            <a:avLst/>
          </a:prstGeom>
          <a:ln w="0">
            <a:noFill/>
          </a:ln>
        </p:spPr>
      </p:sp>
      <p:sp>
        <p:nvSpPr>
          <p:cNvPr id="14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86310-BA04-422A-A69C-E972201CD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985680" y="741240"/>
            <a:ext cx="4886640" cy="3665520"/>
          </a:xfrm>
          <a:prstGeom prst="rect">
            <a:avLst/>
          </a:prstGeom>
          <a:ln w="0">
            <a:noFill/>
          </a:ln>
        </p:spPr>
      </p:sp>
      <p:sp>
        <p:nvSpPr>
          <p:cNvPr id="14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098CE-ECD3-43FE-88EC-971BBCD97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85680" y="741240"/>
            <a:ext cx="4886640" cy="3665520"/>
          </a:xfrm>
          <a:prstGeom prst="rect">
            <a:avLst/>
          </a:prstGeom>
          <a:ln w="0">
            <a:noFill/>
          </a:ln>
        </p:spPr>
      </p:sp>
      <p:sp>
        <p:nvSpPr>
          <p:cNvPr id="14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CFC3E-3FDF-4EBC-8C8E-B66E379C8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E87A6-86EE-44F2-B271-9F58D5269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985680" y="741240"/>
            <a:ext cx="4886640" cy="3665520"/>
          </a:xfrm>
          <a:prstGeom prst="rect">
            <a:avLst/>
          </a:prstGeom>
          <a:ln w="0">
            <a:noFill/>
          </a:ln>
        </p:spPr>
      </p:sp>
      <p:sp>
        <p:nvSpPr>
          <p:cNvPr id="14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15C33-2B69-4F37-AA56-7C726149A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85680" y="741240"/>
            <a:ext cx="4886640" cy="3665520"/>
          </a:xfrm>
          <a:prstGeom prst="rect">
            <a:avLst/>
          </a:prstGeom>
          <a:ln w="0">
            <a:noFill/>
          </a:ln>
        </p:spPr>
      </p:sp>
      <p:sp>
        <p:nvSpPr>
          <p:cNvPr id="14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3C3E7-706B-4361-90DD-CCA4FA1A2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85680" y="741240"/>
            <a:ext cx="4886640" cy="3665520"/>
          </a:xfrm>
          <a:prstGeom prst="rect">
            <a:avLst/>
          </a:prstGeom>
          <a:ln w="0">
            <a:noFill/>
          </a:ln>
        </p:spPr>
      </p:sp>
      <p:sp>
        <p:nvSpPr>
          <p:cNvPr id="14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AE787-0471-4B68-9AC9-945CA4264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85680" y="741240"/>
            <a:ext cx="4886640" cy="3665520"/>
          </a:xfrm>
          <a:prstGeom prst="rect">
            <a:avLst/>
          </a:prstGeom>
          <a:ln w="0">
            <a:noFill/>
          </a:ln>
        </p:spPr>
      </p:sp>
      <p:sp>
        <p:nvSpPr>
          <p:cNvPr id="14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04AB7-076F-43C0-9C38-43486174F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85680" y="741240"/>
            <a:ext cx="4886640" cy="3665520"/>
          </a:xfrm>
          <a:prstGeom prst="rect">
            <a:avLst/>
          </a:prstGeom>
          <a:ln w="0">
            <a:noFill/>
          </a:ln>
        </p:spPr>
      </p:sp>
      <p:sp>
        <p:nvSpPr>
          <p:cNvPr id="14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89702-BDE1-4ED2-B800-12AE9E5E8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985680" y="741240"/>
            <a:ext cx="4886640" cy="3665520"/>
          </a:xfrm>
          <a:prstGeom prst="rect">
            <a:avLst/>
          </a:prstGeom>
          <a:ln w="0">
            <a:noFill/>
          </a:ln>
        </p:spPr>
      </p:sp>
      <p:sp>
        <p:nvSpPr>
          <p:cNvPr id="14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FEA83-0135-4AF4-B290-22F25FC94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85680" y="741240"/>
            <a:ext cx="4886640" cy="3665520"/>
          </a:xfrm>
          <a:prstGeom prst="rect">
            <a:avLst/>
          </a:prstGeom>
          <a:ln w="0">
            <a:noFill/>
          </a:ln>
        </p:spPr>
      </p:sp>
      <p:sp>
        <p:nvSpPr>
          <p:cNvPr id="14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AC59C-1CBB-4B06-B0E4-4062628C4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985680" y="741240"/>
            <a:ext cx="4886640" cy="3665520"/>
          </a:xfrm>
          <a:prstGeom prst="rect">
            <a:avLst/>
          </a:prstGeom>
          <a:ln w="0">
            <a:noFill/>
          </a:ln>
        </p:spPr>
      </p:sp>
      <p:sp>
        <p:nvSpPr>
          <p:cNvPr id="1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0DD61-6264-4169-9183-D3A2A67E9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85680" y="741240"/>
            <a:ext cx="4886640" cy="3665520"/>
          </a:xfrm>
          <a:prstGeom prst="rect">
            <a:avLst/>
          </a:prstGeom>
          <a:ln w="0">
            <a:noFill/>
          </a:ln>
        </p:spPr>
      </p:sp>
      <p:sp>
        <p:nvSpPr>
          <p:cNvPr id="15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47F55-C8F0-47E2-AF08-10D7D6FCA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985680" y="741240"/>
            <a:ext cx="4886640" cy="3665520"/>
          </a:xfrm>
          <a:prstGeom prst="rect">
            <a:avLst/>
          </a:prstGeom>
          <a:ln w="0">
            <a:noFill/>
          </a:ln>
        </p:spPr>
      </p:sp>
      <p:sp>
        <p:nvSpPr>
          <p:cNvPr id="15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DE8D7-BE14-440D-9072-47CBBABBB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EED11-B8F9-4198-84F0-A5AAC6FB9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85680" y="741240"/>
            <a:ext cx="4886640" cy="3665520"/>
          </a:xfrm>
          <a:prstGeom prst="rect">
            <a:avLst/>
          </a:prstGeom>
          <a:ln w="0">
            <a:noFill/>
          </a:ln>
        </p:spPr>
      </p:sp>
      <p:sp>
        <p:nvSpPr>
          <p:cNvPr id="15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63A01-A65A-4C1C-87B5-33D2794A5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985680" y="741240"/>
            <a:ext cx="4886640" cy="3665520"/>
          </a:xfrm>
          <a:prstGeom prst="rect">
            <a:avLst/>
          </a:prstGeom>
          <a:ln w="0">
            <a:noFill/>
          </a:ln>
        </p:spPr>
      </p:sp>
      <p:sp>
        <p:nvSpPr>
          <p:cNvPr id="1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C2463-A03E-4D70-8FAA-C3DB71470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28575-D224-4729-B909-CAC4A36BB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C3A16E5-1D2F-421F-9C6E-3498CDA542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DE393B4-B372-4EF8-A186-40F8E7809E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BDF90FB-6A40-4ED0-A464-359BD60948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552F6EE-3743-4E4C-8E8F-0BDA3DAF0D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552999A-373E-4EC4-89AB-57B11129E1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B21AD46-A893-4CD7-A7F2-5C5AFB190B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13DD934-4308-460C-A319-BFADF6CF89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CF113E9-FBF5-4D60-A0AF-B79AC00081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D96C696-B3DD-4893-A3E4-0FD19B71C5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9DBDA11-50F7-4DEA-958D-4277143ED9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B49A5D-A075-4EC1-8684-68EB2A5F31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4E5E9EB-D07F-487F-8B7C-6F6F18B5C5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15AB6DC-98B4-4657-B2CA-99F22AC25E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2695578-179A-49A9-876A-435F1A9C12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37696C5-76EB-417C-8F4A-F992642A39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AF8BB951-F42B-4A0E-B174-EBFDECB7DE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0969CAF-69BB-43D2-9C5C-EE97CA64A91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74DB45E-881B-46CD-9D8A-18522E9DD8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7D3196B-29ED-4797-80E0-7EE33EF34D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44AB3FA-450A-4142-9EE6-DE97ADAA4E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57D757B-A009-48D1-A893-2FFC1D5BF9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9CFA892-836B-4882-8D8C-367A4F2EF8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C533302-C00C-47FA-96C7-0C1E5D7399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E10C655-BDC6-460A-AF2D-D10432BF4D5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F11981C-A663-433D-BBD4-D5C39296B85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C68334C-9EF5-4FE2-832E-E9E3C63FAC3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E4C9610-06C7-4316-9D5E-96D9AD3D3C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D629B2D-3A80-40D7-803E-E31C9A8B91F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22BD6E4-DA20-4B51-B880-CCEEEFF1C19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652F6EA-0096-4B1A-BB59-E1D8BE93850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9AC695B-31FA-4074-B218-5F7F87610C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2073B36-1EA9-4E2B-AE55-8FFDD733A5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EB34876-248D-45F9-930D-CBE82C7C2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92AE3-05DE-48C5-BF60-C7D9D6B794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AFE158D-999F-4FD8-A308-3B4E15B1EB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F61A1FF-5528-4DCA-A4FF-5B7D310EDD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8C12C69-3CE9-4BCB-A600-6888136B2B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C33B542-B2F3-4231-AE00-0158A54129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F880307-60BE-4AE1-B266-002CEC2DFF1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E095113-2775-4C88-8C91-A8D478232A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1436D3C-F37F-48F5-B908-010A252AF6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EE22336-6CDF-4663-8C6F-29291F2D62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2FCA8F0-55CB-474D-9121-8AD7272B2F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6E340FF-6B8E-40EB-BE17-46A439EAD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19FC5C0-4825-42AB-A9AA-A7A08542FF4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FD95EF8-B057-4F8E-B4F0-53CFF5EF20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D2534EC-5C93-4BBF-A789-41ECA3EC0A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314FAE4-3D26-4CBD-AF96-D99BCF4215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9BD906A-5ED7-41BF-953D-996A4D8688C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10CA241-AC06-414C-9249-7A8FF3F1DC1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7175B85-C8DB-4B82-B68E-E0B0A47322D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D3BDE87-DE5D-4D4D-A270-5B16FD7A8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32CB3D4-D6BA-4E28-9A71-D5147B452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66D172A-C67C-461E-8DDB-168F1FD96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BA58801-12B4-44BF-9CF0-0AF0BF4039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A8DD59-410C-4C63-877A-C42F19E374E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498A7F7A-E148-4422-9803-E5461177B4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AF19FC9-B535-44F3-84C4-259E64C2E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F5103B9-2A86-4E54-9B46-9386DB560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E2A711C-0D63-4B86-BB6F-A4AAA8C3F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C627DF4-866B-4302-B83D-7DD70C7C9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738526AB-7502-4804-85DB-6D8037590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B685155-F133-4D70-8E6C-F89EF838690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9B5DD81-BF01-4214-839C-B799D8631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CC781DE-65B3-44EF-8F2B-2A63AFD29C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2D54507-5555-4948-88B3-D004B16529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DDDE97E-961C-484D-A51A-F6707941D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C5FCAE0-BA55-4562-BFA9-49E7DBB5D6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46FBF3-1617-49F3-88D5-CFEACF2369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649895-363D-438D-AD4C-E45E4398E2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7B7F3C5-B8B0-446A-B8E4-6AFCD5BC55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15928CE-D280-4060-A2E1-482B7715A7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67E57A6-706F-480C-8F72-E4DCC00614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480758-CEA5-4F2D-AEAA-544DDABE98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1CB868-C72D-4E3A-A009-23984E7B2C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B4C5C-7421-41D7-869E-2C4EAA5238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24C72C7-BFC6-4C0F-A0FF-38D7D2BDCD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78FC74-5CB7-4E28-B8E8-A91E8238B9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776F9B1-4906-427A-BCCF-5FF6E6746B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C022779-5947-4914-B22C-6B2E9D79E1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60640EB-303F-42C7-994C-3EA18951B8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FFEA3E9-F687-443B-BEED-C6E1404FC5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92A371C-AD72-413D-B3A8-F219DBDB05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A273C4E-5F16-4A9C-83AE-47F1A3C1D5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E41EDFD-BAA5-488A-A904-E61EBC2AB5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6146361-15EE-4642-AD6D-5B4B48BCBB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8FE109-0177-4963-8CEC-0AD3FE8DB6F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1AE49A3-70FF-4237-AE16-3876CC9E66D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92F5692-21B5-47AA-93B2-E7B5F49D5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18A9FFF-FE9C-46FF-906E-181DCF4462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0A27CF4-30CF-4FB9-B319-2859F9DC2E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42B216E-0285-43BD-8C3D-E51003A47E2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505FD7C-D475-4BD1-AE1F-003D458353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8CEFC12-B61E-48E5-9E15-9C95647DE6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DE03760-27FB-4349-9CF0-E281593703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FCA6CF0-CC5B-4BE2-B367-DA6D2467383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6ADED62-774A-4ED1-AAFA-4D8F6D9E2A9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2B426D2-909E-44AF-81C6-E8DE99BD77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62D8360-27B6-4839-93D7-A598D90E6A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9D1B79-3C43-42AE-8AAB-89CBFB1DC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105EF57-DF84-4244-AF77-19526F4739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7B0C5A7-A2B1-41B3-8921-6ACF87320A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06456A7-1121-48BA-872B-7C4AD3EDEC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92797F2-201D-48D2-82DC-FBBC39369BF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D3D5BBD-EE69-41E7-8325-DB39E1D8E9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70D9E07-9E52-4FDE-898A-87E677FE4E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B6263F0-0338-4065-AFB9-9E36E45B2C5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5A7A225-24DE-4D63-BBB3-D31B31EF1F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1478EF1-4E77-4B24-91B2-B32C309A51D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B0307AB-9B13-4A9B-9624-7F8C90D053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46FCE10-EA1D-41AB-BA69-836E5A2B6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FE6846C-1231-4579-8A7F-6FB1DCBD7D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38884CB-D188-4FEB-9F8D-C0FB716677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0853D1-2C73-4EDD-83EA-C06D84C25E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F14A3F4-D66A-4836-AFEF-1BDE7442375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BD60A63-9C01-480F-AC11-034C35D539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160351B-EE47-4F1A-BEC8-361BEB7BDD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4814DC0-E65F-4921-A6A8-8B05E477A2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803B7F2F-3E46-4F49-B901-58CF7E5E79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62C5C4B-0753-4BA5-B24E-C233F8388D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5761E28-8753-4E4C-9A38-488FD8408D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DFF0A5A-8D4A-4D65-B9A5-A8D9DC1B7E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A4956E8-D5B8-410B-BBDA-DE313549EF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C31E240-0D42-41BA-85DF-0EE52B4938D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5402A4E-137C-4E46-B6D2-02135547C4E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0A32F93-309E-4B3A-A228-DCBC2F1C17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05D19A5-EE9E-488C-93A9-5144ACE9A90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CE1E0DF-9677-462C-AD65-5F2FCAB7382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C2B1D04-2B78-4218-A92D-EABBCD728A7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5A773A5-8ED9-4639-8087-07E60156722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BC836EF-6D70-4ECD-A3FF-651CDC416F1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0D12AFF-80AC-4562-B8E2-7D166A76E9C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FDBCE64-E8C6-4E4E-8013-ECB200EF8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9B9EB0C-F41A-4987-B9DC-021E5B28B3F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C1F9A6C-685C-4022-9300-48F5B669D6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0089347-9F9B-4B9C-86B4-AEB068656E3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6196B0C-9A4D-41E4-B38D-7A45648CF83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4BBD359-4E18-4D48-BE82-08BF8836B7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1E11AF4-DBCE-42FF-BB5C-20FD2A8D5C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8C6185-4582-4397-8686-F28E2391E0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82379F8-9768-4990-A924-60033F55E9E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A56733E-0251-4B75-866D-6ADBED1791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8001FAA-9063-4CBD-93F2-675E44E258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7072DB1-C66C-4B20-AEEB-F6B33304B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7F98C3D-9BD1-4E00-82B0-D52DC84331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B6FB599-BF9D-4C98-B0A7-973C608196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F8805F4-BF09-4DA6-9CC1-1C6C338DA2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B6046EF-780C-4AB8-8FF4-79B7767FAC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F75DE31-2AFD-4CA9-ADC1-AEFD9CF4069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EC4D64C-3824-4B55-B1EB-B7835090BA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BA1BA8E-F950-474B-9CDC-FF2FA6A14B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91B4BD3-99AA-484C-A072-DB77861811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A66886E-CF1D-41E2-9269-53ED62EC4F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E964014-95A2-43D1-846F-08B0AC722D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5B83E19-713F-49E2-8103-44C038F4E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CCEB9-C023-40E7-8028-9EAF1986BA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4E076-F0EB-4E7D-89BB-759E612FB4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92A8D-FF3C-4087-8D97-F52B427371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FFDD5-98D4-401A-98D1-D3FD3CAEF9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A0261-94C0-44CC-9614-F45370407C1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23CD4-9653-4FD9-8C29-C7319AD0C7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A6740-E825-4CE0-B87F-B158B3879C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273F9-EFFA-4480-9D1B-C422101DDB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2757F-C671-4D86-B934-BC50497D33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4C1F8-1DF5-488B-BA2D-560CBD2230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C290A-89CB-4F0C-B38C-F8E1E553EA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001C5-120E-411A-9F2E-31A2F4030B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2078F-CFB7-4C29-A1C8-F9D70FF8C8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197000"/>
            <a:ext cx="8351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00" y="1052640"/>
            <a:ext cx="849600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24000" y="1341360"/>
            <a:ext cx="8496000" cy="444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ea typeface="Microsoft YaHei"/>
              </a:rPr>
              <a:t>Αντιλήψεις</a:t>
            </a:r>
            <a:r>
              <a:rPr b="1" lang="en-US" sz="3200" spc="-1" strike="noStrike">
                <a:solidFill>
                  <a:srgbClr val="000000"/>
                </a:solidFill>
                <a:latin typeface="Times New Roman"/>
                <a:ea typeface="Microsoft YaHei"/>
              </a:rPr>
              <a:t>,</a:t>
            </a:r>
            <a:r>
              <a:rPr b="1" lang="el-GR" sz="3200" spc="-1" strike="noStrike">
                <a:solidFill>
                  <a:srgbClr val="000000"/>
                </a:solidFill>
                <a:latin typeface="Times New Roman"/>
                <a:ea typeface="Microsoft YaHei"/>
              </a:rPr>
              <a:t>στάσεις και απόψεις  </a:t>
            </a:r>
            <a:br>
              <a:rPr sz="3200"/>
            </a:br>
            <a:r>
              <a:rPr b="1" lang="el-GR" sz="3200" spc="-1" strike="noStrike">
                <a:solidFill>
                  <a:srgbClr val="000000"/>
                </a:solidFill>
                <a:latin typeface="Times New Roman"/>
                <a:ea typeface="Microsoft YaHei"/>
              </a:rPr>
              <a:t>των εκπαιδευτικών </a:t>
            </a:r>
            <a:br>
              <a:rPr sz="3200"/>
            </a:br>
            <a:r>
              <a:rPr b="1" lang="el-GR" sz="3200" spc="-1" strike="noStrike">
                <a:solidFill>
                  <a:srgbClr val="000000"/>
                </a:solidFill>
                <a:latin typeface="Times New Roman"/>
                <a:ea typeface="Microsoft YaHei"/>
              </a:rPr>
              <a:t>για την ένταξη των μαθητών με εεα/αναπηρίες</a:t>
            </a:r>
            <a:br>
              <a:rPr sz="3200"/>
            </a:br>
            <a:br>
              <a:rPr sz="2000"/>
            </a:br>
            <a:br>
              <a:rPr sz="2000"/>
            </a:br>
            <a:br>
              <a:rPr sz="2000"/>
            </a:b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79280" y="907920"/>
            <a:ext cx="842508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11600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125360"/>
            <a:ext cx="86374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125360"/>
            <a:ext cx="8569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25092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826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70" name="" descr=""/>
          <p:cNvPicPr/>
          <p:nvPr/>
        </p:nvPicPr>
        <p:blipFill>
          <a:blip r:embed="rId1"/>
          <a:stretch/>
        </p:blipFill>
        <p:spPr>
          <a:xfrm>
            <a:off x="0" y="0"/>
            <a:ext cx="9144000" cy="1368360"/>
          </a:xfrm>
          <a:prstGeom prst="rect">
            <a:avLst/>
          </a:prstGeom>
          <a:ln w="0">
            <a:noFill/>
          </a:ln>
        </p:spPr>
      </p:pic>
      <p:pic>
        <p:nvPicPr>
          <p:cNvPr id="1271" name="" descr=""/>
          <p:cNvPicPr/>
          <p:nvPr/>
        </p:nvPicPr>
        <p:blipFill>
          <a:blip r:embed="rId2"/>
          <a:stretch/>
        </p:blipFill>
        <p:spPr>
          <a:xfrm>
            <a:off x="1258920" y="2060640"/>
            <a:ext cx="1297080" cy="1528560"/>
          </a:xfrm>
          <a:prstGeom prst="rect">
            <a:avLst/>
          </a:prstGeom>
          <a:ln w="0">
            <a:noFill/>
          </a:ln>
        </p:spPr>
      </p:pic>
      <p:pic>
        <p:nvPicPr>
          <p:cNvPr id="1272" name="" descr=""/>
          <p:cNvPicPr/>
          <p:nvPr/>
        </p:nvPicPr>
        <p:blipFill>
          <a:blip r:embed="rId3"/>
          <a:stretch/>
        </p:blipFill>
        <p:spPr>
          <a:xfrm>
            <a:off x="6948360" y="1989000"/>
            <a:ext cx="1444680" cy="1573200"/>
          </a:xfrm>
          <a:prstGeom prst="rect">
            <a:avLst/>
          </a:prstGeom>
          <a:ln w="0">
            <a:noFill/>
          </a:ln>
        </p:spPr>
      </p:pic>
      <p:sp>
        <p:nvSpPr>
          <p:cNvPr id="127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27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7:37Z</dcterms:modified>
  <cp:revision>166</cp:revision>
  <dc:subject/>
  <dc:title>Παρουσίαση του PowerPoint</dc:title>
</cp:coreProperties>
</file>